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E1A-A82C-4B1D-A2FF-917E844E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713-FE14-4AF0-9C88-CB58A8E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6FC-6D2D-4D22-9F8C-4522182B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01A-3E77-4B85-A40F-ABCD13E7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760-6AF0-4FA4-9C9F-6182769D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0C7-A565-4828-B44B-D7D53EC1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E685-F59B-425A-ADB5-D258866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BBE-C395-4C90-83A7-069A0EB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772-F2E3-463A-8EB3-F060E29B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1537-A567-402E-A505-B443C70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DDF-2552-49E0-9998-1BAD781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61C-3024-45EA-99FB-1705D5B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2D3B-9358-42AE-88EC-7EAC900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0DE6-C333-4BBB-B88F-4CB9B81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E963-94EE-4038-9CAF-895E8CD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CEC-CBC1-4EC0-9586-C7C0A5F8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3E1-2511-4F4C-9C33-C1DC6BD9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6C7-6F86-44B2-86B4-5539ACA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4BD-EA1C-4DFA-85AF-F49A1B2E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1B9-218C-46F7-830B-A8E9980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60D-16F2-46B1-939D-15E7CC8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BE3-9495-43B4-9411-96D5DB9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BEF-0471-4DFB-B43E-D6FB65C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56C-9C43-4A22-84C8-51C758A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88B8-ED93-4CD8-B9D1-AB1A5C9E9E9D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08E-3E6C-4425-B9FB-7167811B3DDF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Spreadsheet &amp; Best Practice Strategies</a:t>
            </a:r>
            <a:br>
              <a:rPr sz="4800"/>
            </a:b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trategies that Promote Maximum Student Learning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dentifying similarities and difference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2. Summarizing and note taking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3. Reinforcing effort and providing recognition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4. Homework and practic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5. Nonlinguistic representation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6. Cooperative learning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7. Setting objectives and providing feedback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8. Generating and testing hypothese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9. Cues, questions, and advance organizers</a:t>
            </a:r>
            <a:br>
              <a:rPr sz="2000"/>
            </a:b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1.  Identifying similarities and differences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20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ts to compare and contrast items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gage students in comparing, classifying, and creating metaphors and analogies about the data used in Spreadsheet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2.  Summarizing and note taking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lvl="2" marL="10285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According to research, this requires substituting, deleting, keeping some things, and having an awareness of the basic structure of the information presented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When students are finding information and creating a spreadsheet they must choose to summarize the information for example when creating a spreadsheet of civil war deaths students must summarize information by analyzing it decide what to include in spreadsheet. 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3. Reinforcing Effort and Providing Recognition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ve students keep a log of their weekly efforts and achievements, reflect on it periodically, and even mathematically analyze the data using spreadsheet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067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5. Nonlinguistic Representations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represent learning such as creating charts and graphs with data.</a:t>
            </a:r>
            <a:br>
              <a:rPr sz="40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6. Cooperative Learning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may use Spreadsheet when researching and compiling data for group projects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8. Testing and Generating Hypothese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9943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may create a formula, make a hypothesis, and test the formula.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49:13Z</dcterms:created>
  <dc:creator>CMCSS</dc:creator>
  <dc:description/>
  <dc:language>en-US</dc:language>
  <cp:lastModifiedBy>CMCSS</cp:lastModifiedBy>
  <dcterms:modified xsi:type="dcterms:W3CDTF">2010-06-22T12:01:59Z</dcterms:modified>
  <cp:revision>1</cp:revision>
  <dc:subject/>
  <dc:title>Spreadsheet &amp; Best Practice Strategies </dc:title>
</cp:coreProperties>
</file>